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839450" cy="7761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ED1-65EC-401C-8E41-493B158D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48632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932-9F3F-4839-BF5B-460BB78E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96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433-C612-402F-B455-501A5107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940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808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940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808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75C-0087-496F-9836-6C74B070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BC5-E6BC-4B1D-9D02-8862A9C8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897-14C2-48D8-9587-A3598D2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6C1-9C2B-4D8D-B9CC-08117F73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348-CF49-403B-97F7-95D76FC5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11040"/>
            <a:ext cx="975492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9A7-0A3D-4342-A900-797498F6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D64-CC7E-4C0D-A7F6-9850A01A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96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CB0-B71A-48C3-8CCD-DCA6987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7A6-7697-49D4-AA58-3DF2339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067160"/>
            <a:ext cx="2528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3320" y="7067160"/>
            <a:ext cx="34304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720" y="7067160"/>
            <a:ext cx="2528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5954-FE77-43FD-8990-1B55B0996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" descr=""/>
          <p:cNvPicPr/>
          <p:nvPr/>
        </p:nvPicPr>
        <p:blipFill>
          <a:blip r:embed="rId1"/>
          <a:stretch/>
        </p:blipFill>
        <p:spPr>
          <a:xfrm>
            <a:off x="304920" y="1562040"/>
            <a:ext cx="10397880" cy="5715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10325160" cy="5829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10477440" cy="6934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" descr=""/>
          <p:cNvPicPr/>
          <p:nvPr/>
        </p:nvPicPr>
        <p:blipFill>
          <a:blip r:embed="rId1"/>
          <a:stretch/>
        </p:blipFill>
        <p:spPr>
          <a:xfrm>
            <a:off x="266760" y="228600"/>
            <a:ext cx="10363320" cy="7315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363320" cy="7162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0553760" cy="3504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10325160" cy="594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" descr=""/>
          <p:cNvPicPr/>
          <p:nvPr/>
        </p:nvPicPr>
        <p:blipFill>
          <a:blip r:embed="rId1"/>
          <a:stretch/>
        </p:blipFill>
        <p:spPr>
          <a:xfrm>
            <a:off x="190440" y="76320"/>
            <a:ext cx="10439640" cy="4190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6:36:33Z</dcterms:created>
  <dc:creator>2</dc:creator>
  <dc:description/>
  <dc:language>en-US</dc:language>
  <cp:lastModifiedBy>2</cp:lastModifiedBy>
  <dcterms:modified xsi:type="dcterms:W3CDTF">2009-02-13T06:36:56Z</dcterms:modified>
  <cp:revision>1</cp:revision>
  <dc:subject/>
  <dc:title>Слайд 1</dc:title>
</cp:coreProperties>
</file>