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dt" idx="7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ftr" idx="7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 type="sldNum" idx="7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1D48-4E2A-49D8-AF57-503EB7FAC2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9FAE-1758-4B22-9B31-0C0FDD5C68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3702-6F9D-48CB-AD89-9660C748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3257-0DFC-42FF-B50E-420C5CA5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B828A-D283-4D2A-83CA-BCADB38F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3AAD9-EE1B-4BF2-B777-0220B4C2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442B1-418E-4FE0-93F9-AAC23A00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024D0-1417-4587-84A7-740FEB13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6BC84-9983-4CE4-9D1B-5A4F48A7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DFA73-6580-4B24-A512-8A935735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F2D7B-B678-4349-BACD-B2DC7C05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E6E98-EA45-4722-BC7E-C3735481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18849-D679-4731-B4A8-560AD155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866A0-26E0-46E4-A2C3-3CC03AFE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4B8C-8E9C-48AC-A671-B6280941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98B09-1634-4A1E-96DA-F4C943EC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23D86-050B-4224-884F-BAC68816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21528-A7B4-432B-9745-14330FA5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1C116-E4E4-4DFE-ACBA-6349F373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9AE6A-28AC-4ABB-80C1-F95DDE3D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13246-FF6D-42E9-90AB-7DFB56F3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A50AB-36DB-4AEB-B294-9EFE1292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34603-C631-459D-9700-62CC1E60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010FC-10EC-4568-927C-C2CCF211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FB587-429A-4C8C-A478-94326DB8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6A02-8732-4D1A-934E-1A908FFAF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AD826-886A-4A85-8BBE-B5EE1FD0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897F2-13C2-4941-B81A-50A7498C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B660C-6056-46D6-A8C3-B3799CFC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D5704-8A58-47D8-BEED-56D5AC23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D54F7-8D5C-47AA-BDD9-63CA6930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48E94-FBCE-4C13-8D3D-F3398970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7AA01-1FA6-44D9-985E-E9C54ECC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A2005-B959-417E-A2F0-5270A50D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5F16D-A3ED-454B-A6DE-2E6CDBFF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84E5F-FF18-4D41-9B6D-BF5A5945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36D8-9EF8-4082-B95E-73A91DE4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91BB6-2116-40C2-A47E-36007852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AEA50-7802-4605-8045-7F814A19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E0F1C-46D7-4FB2-A90C-4CE5EBE6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28386-789B-4AC3-8478-0CE8E8A7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2E562-5A28-45DC-912F-93707CD3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CB09E-0AFF-4C6D-8305-204A6DF6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097A4-13C2-4A56-BA58-99A1C6F9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3BDE2-5B09-421D-910C-4364B6F1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34E64-F92F-4668-964B-6CC72625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A9D66-5621-4F63-9133-24E772F9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88CD-51F1-4139-86E6-A76FFACB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1AF56-B13E-402C-8F0F-09996A57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0E39A-5CDE-4505-BD7B-3E2FEC0D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DD091-07B5-4199-B51D-5988951B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AF1D5-FA44-4C27-AE6C-B6E346B6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B7C1F-0923-4E2F-AA2D-5F4EB5F7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F5DFEC-4281-4284-A254-C340540D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C330CE-8F51-4E92-AF01-30711208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3C345-20FC-4EC0-A63B-F6EB4090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FB0784-79DE-40C5-9A10-51724EF6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780515-6586-4F4C-B15A-2FA2C834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22DE-F003-4E8D-B5C7-C63A765C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FCF00-FADE-45BE-A9A0-BCE41F94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53F0FF-E302-49F6-BF1A-E0D8E1E1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AC4C73-B78F-48B8-9BEF-9947957E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D1819B-729B-4D8E-9D5B-14BF802A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D37710-D851-47BB-AC63-5612703D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0B95FE-91DB-4BA2-AE36-48CC8AAD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26AB9A-221C-46C7-8CB4-ACF4C107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CC75DD-AF5E-41B2-B330-785F6B0D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F874F6-C9C4-49B5-B66A-ACA25226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D34D9C-2A8C-480C-AD6D-698FFC5C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773F-A38C-4240-A4BD-8C647DA3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232564-DADF-4E35-8DC9-8F84CEE0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8F19BB-9C47-4746-8B7B-215F4FC9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893B74-824C-45A4-94A6-ECAC6472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0BBE11-8623-4A1A-A652-D9E1CD9D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5C9925-204A-455F-9C17-5B31BFE2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BCA1DF-0653-484B-93F9-D3223361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66561B-C57E-49CA-8789-FB6ED739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9232EF-D703-4429-B57B-F3479021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260E2A-ACB6-440F-8E23-8D54F6C2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5AB23E-0630-4554-82CB-D1B904A4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D2EA-AFC7-4B9A-A61E-6616D416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878303-3C6D-4257-9063-9FD3F4C1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5A7C3A-34E4-427C-B8AC-3F0DB566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920687-6C85-41D8-92DC-16E25817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5762A8-04EB-4063-9E61-B1B89ECA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D3228B-13C7-4A0B-9B1C-0C811E7B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CA578F-C320-4F95-BEE1-97B6071E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F02680-F8A4-45C5-A5AE-B393BB30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249CEA-C4F2-442B-93CD-019F42AD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E811E7-0896-4601-8795-1B0BEA8E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2F4A44-C456-419B-9CFF-91EC9651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6C3D-D886-43E6-99DF-44C4BCA2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08C5A9-9E97-4F1E-9795-600EED72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89B518-66BD-4E37-8CF0-6AB53D8D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1CD957-7A8C-465B-8F3B-0A2E2223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5FF0EC-022E-49F4-B871-EFAEDEEF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A1B8A7-3A52-4521-AC77-D28E2F71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25F973-2DAE-4FC0-96E9-3476EAA0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0DDA68-160F-440D-B0F7-202203E0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7DE0DF-12B2-448E-A8F3-C547D158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5A8649-5AC1-4D65-8F01-E2DE4057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2F1EBB-386B-47D1-B0D2-6ED615BF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3E00-CA11-47C3-9BE2-92391ED8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1CA85F-C1A7-4AE7-AE41-C1167F7F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7FA6BA-7E4E-420C-B49A-F8518B34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B5F7D2-7B45-4A7F-A745-B95F55F0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37B2AF-DAF0-4E0A-9E1F-F63B8426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F15DF1-D1F9-43D4-952A-878A59BE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56344B-EAAE-42D9-96BD-D1DB6E44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823F57-1D83-4482-8A9A-E72BABCA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92AFF9-6DBA-411A-AC0F-DE238572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B4B5BF-C88C-4726-93D0-4126DD6C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E615BD-D47D-49AB-8CEF-115827BF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55CA-D349-48CC-9908-6A15055A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C265-B9A4-4496-B955-F329CAA0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6B876D-56FD-4CF4-88F9-DFFA3FF7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2889EB-2169-4FE9-B6D0-CDAD1CEE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5A4A9F-78E7-4E25-8B0A-5133D807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EB482F-9B40-404A-8FA1-EA2B33FC7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18B833-9E98-46D7-B3A9-5D96A309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7164A4-F53C-484C-90E6-7C1E02C5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A7B72A-8E6B-4B09-80A4-94F332F4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9096E1-5D73-44CF-8A07-83E63B18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397AF5-950C-4654-B33D-FDBA077C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D95A3C-F4C2-4316-9272-5CF6F4F1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0E3B-5744-48B7-A9EE-0BA496EE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08844B-7C43-4DF8-B828-B3EA0CD1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9345D3-0AC5-4186-AC31-71FE5DAA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317DC9-A05C-4E9F-AD89-3424991C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E35B54-C54B-4CD0-9054-A441BAA5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D6C3E5-B574-4FDD-A818-D642790E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045B1A-B85E-4461-A369-D10D0AD1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3B7290-14BD-4296-8777-153565EA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9978BD-5F02-4BAE-9D20-4EB8EBC6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3A8C41-7EB2-4BC3-8F8A-A39CFD03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C1871E-62FF-4CED-9C00-1F57A173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DACA-3368-4B4F-8355-842ACD14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F5E4E6-9A33-4C21-877E-7816ABD3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4858FD-9839-4ACD-B5E8-2A3E7C66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7CF453-4D6A-4950-A82C-717B6831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3D8F83-0F2D-4786-9201-6D9B948B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BFBB52-5CB6-4ABD-A1C4-845975E0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7CCAE2-95D4-4E17-98F8-647BED5B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B27DD0-BD58-48EA-A60F-5B28A0F3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4056E1-A737-44FF-86A1-5EB81F11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75A011-A990-4731-A8B3-E5F97516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859962-4630-489B-AEC3-E1B4E7A9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C177-177B-4E9A-A6E9-3042F29D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7DEC01-AF69-4EF9-A320-91F772C0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CF0457-A62F-4D62-B6AE-2CDF4145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B46339-284F-47C0-825A-91E66B9A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97DF0C-77E7-461E-B5E4-DF3CAD7A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F1DC53-5F9D-44FB-A3FB-D871691E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0BDB09-8F19-4E1D-8E64-3C82858F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D1A1D1-01E4-4D0D-A43B-45A996B7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FB09B1-4854-4426-85B3-CD0916D3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48AC56-FD75-445C-BA56-7908FA31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7806E6-3236-4E91-96C1-E8DC459C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6AFE-43ED-4F61-9008-27898891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BA7927-6055-46D0-9DE3-2FB6FC99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D36578-CA1C-43E5-9E8E-5D00C06F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D58330-BBD8-4714-AF6E-FD8128CF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CCCCEA-C8A3-4BA8-AC62-2AE74B84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D60CBE-B0FE-4789-B8AD-93B98C82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939E6E-6527-4574-863D-59FA62AD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6C4B36-6192-41E7-8F83-17AF648D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4C14B7-3D41-4FA7-A9C4-16DFD1F6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5BFE94-4E8C-4682-BD4A-377992B9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AB19BC-4A07-4E14-8430-A77B38E2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82986-45EA-44C1-AF09-F3CA389A2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6BF156-E08F-40F3-9356-7241436E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76D549-AB9E-46C0-9F3F-C98E1BE6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8873F0-AD2F-43A6-AA8D-E3699C9D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2242D4-330B-47A0-AEB4-DD444D73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AFDAEC-E746-416D-8DD4-D509236E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D66768-1EEF-4701-A692-4A700722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D5E588-A10D-4AE5-A9D9-F9B211FC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CFE063-083D-4003-8A66-B6B29230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2140D8-E219-4D01-A31D-F96E114C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F33B3A-2D02-46C2-B369-9A1301FB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45B97-351B-45A6-9186-F2B8EB35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43205B-A37D-49D4-BC27-D56B18B1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0D8B4E-F7E8-4ADD-9390-515FBAEF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8A191D-F461-42D5-9A4A-2EC3F5C5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0F2E22-3384-4799-A16A-C65E2612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C61DEE-7BE0-4868-9742-7C680AB0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707B7B-0258-4D1E-884C-A101ADE1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8AB945-6001-4EBE-9E4C-A86EC779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CE817C-E91A-4392-A51E-2648E5B9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F45883-7D73-4CD4-93A3-AD69BBF4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00D63F-7688-4BB9-99F3-A43EC5F1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C6FA9-FC19-4717-AD1A-C40A26AE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CE9883-89F3-4C50-82FB-B29EA5D5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7F165B-3444-4FD1-92CB-2AC1FB38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873A15-6CA4-4BC5-9AC4-CA7F42B4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7FDC73-6D3E-42C7-9F89-DC787CFF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25ADB5-4119-4F3E-935C-3F585E6E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2F7961-150C-42CC-B8C2-5C220B37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2F6086-FB10-44E8-8570-C7FF096E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06E514-7FAA-4EEE-8124-9DA9D59F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995E02-B98A-4026-A3B7-46A63D6C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B85202-5263-4F23-97CD-0DCF60AA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CF597-9A43-4BCD-BA13-998210B9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2C10B6-0471-4ACD-9B4E-A01A7589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7D03E1-C013-484C-BD23-E74419D9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FDECAC-8F16-4453-A5D9-0B693A40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231CBE-21AA-4811-B957-A8516919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40BFAE-9836-4827-A532-474FE5CC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869103-5412-40E2-B7A0-E35DF235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C98ECA-D735-411D-A805-59089B94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9DB50F-66AF-4A5A-9480-2334E1CD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A66F54-14CC-4287-BCF3-108A7502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A25DC-FE65-47CB-AC1D-2FD0658B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40BF-1B95-40F3-B124-B2E157E4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B8CAA-024A-4375-8BE3-2847A287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7D2C2-2306-4C68-8256-E67D7E4B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38C91-E806-415D-9BC3-8C88931E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60F5E-82D0-4F6B-8899-CD28E26F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1F0B2-F122-4466-8780-6D7CDBCA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E570C-BBE6-44D7-8534-2CAFAA88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1D68E-22DB-4D09-BB29-AF878A8A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3E9BD-14B1-4A15-8E46-A35CC0DD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00599-C655-4B09-8296-713D73CA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8E330-F327-4293-9853-2A978F2B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BB5-6232-46C0-AA83-6E8E8753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7467B-4D72-4AEE-A777-5B35159A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F9F24-65AC-4F91-92FA-0BB714BF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63BDE-9093-4022-90B0-5C15D8DD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4B946-FA78-44B3-BA17-522FF4EB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13628-C5DA-425B-86A1-7F67AAB6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65ED4-A102-4D96-BB9F-5DF748C5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D5979-D30D-4D98-A134-DFD7A302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FE066-7002-4466-AB47-5BFDDA9D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28D6C-9981-4203-89C0-0B92B675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EB2A3-DB11-4082-97A9-A9B0EC45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C47E-65D8-4F77-84AD-5F2B54D0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E8D8E-9C57-4BE4-AE88-61975472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4FE21-9933-425B-B962-E0E619B5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EE540-94B9-46B5-993C-97DB1F97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B00A5-AF23-4AEC-8142-DC84D83A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8561E-0D4B-4D20-AA4A-EED23FA7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3C6FA-F3F2-44BB-BB91-780740E0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2418F-8314-4A7C-A8B1-B02676EF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BBC9A-C70B-493B-98B1-3A0B48F5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53AAD-9BD2-468F-96D3-91866156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19DDC-6CB5-46B5-B9D2-20411493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ABE2-BC9E-417F-B5A0-BFD36FF9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94BA2-6B78-4A91-8391-8D91E211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90B19-3BFD-4328-AEF0-7AA49956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A4D27-9E81-4A26-81A5-0441F37A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3BD32-D8D5-4765-BE12-6D458785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0696C-3F73-4FC8-A805-68C9888F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380D9-C807-4670-B551-A10C3105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3B0C4-5FFC-4293-B6A0-935A1215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2366D-D7AC-468A-B38D-5D08B7B5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A84A5-EABA-4493-BBB9-A56C9B2E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A6705-171F-48F0-9F1C-36BBD517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82EC-DCBB-4D8A-A7B6-C58D8410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08FBB-A292-4DE1-A82F-95044739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9BE2B-EC83-49EA-9867-DD086496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2652E-E5C0-472A-9BFE-F63E03EE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50C2B-94E4-48B9-B54D-0336B757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837D0-1AF9-4EA0-A903-7DE8461B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A7BD0-6D2C-4CFC-AFF3-A26EBBB9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9BEF2-98F7-4A9A-9978-8E7091FD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2B7F2-C55D-40B0-90F8-5E115F13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5EAE5-17B5-45DC-9AD6-D6EA46A8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CDF26-07E5-48BD-A2C9-ACFD98D0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785E-6C43-44AB-8433-7CDC62A3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6CA93-2DC2-4545-868F-0B27E53B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E9921-D1F7-4575-9C2B-B210C746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A4701-AD7F-43A9-9D66-87435C1E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E057B-2A34-4FE8-9844-F42C0795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BF98B-E098-45E5-98BE-FB110266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6D35A-2553-487F-95F3-7E9907D5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95496-D3CA-46FE-B970-44379BB3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2DA38-D240-44C9-B4F3-2452986E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FCDB1-BA1C-43DC-BCBE-A44C9FA2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E913A-217D-4928-BA68-D802C688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02FD-A0EF-4A8D-A997-E3893569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F664D-C832-453B-A49F-E7D99528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A03EB-5E2C-4847-937D-5FD7B45E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41296-8895-4430-83CA-2925F353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C522C-D59C-452E-B731-D05C0250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1DE5F-D6DC-4303-9706-AEAE4F0C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E4CBC-D05F-4700-BF95-CAD4E681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8EAA0-55DD-462B-AC78-6B48B723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B72DA-13AD-4823-98B6-BAC6FA81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DC3B2-82C1-4AB9-A007-53C6DCE5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547D9-1EDB-4D20-8AFF-81116864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FF35-A261-47BB-98DC-E2EDBEC12D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0571-1DA8-4C79-BBFE-6682F134DD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7574-851E-4EF3-9C38-28832B603F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7925-DA80-4BCB-8808-4392C6459F5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AABA-7D0B-4609-8F32-6C412B98BD0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3F94-8865-4150-918C-9A3BCEDDB7B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EB95-2405-4660-8650-9C258AD9F7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AE6A-E94B-4E1E-9397-A54F6520DB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7F20-03D5-47B3-A5D5-0B61CA5B9DC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3CDE-EB12-4E38-AF52-7733C8515E7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12D0-416A-4545-9772-E039FD346D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0726-6741-47B7-A5B1-8B6A2C0D65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2E63-C52A-497F-8DA6-7BA1BC065AE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F984-69DF-420C-9058-3A6043D5071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EEEB-B5F1-4D76-8EBC-FEA42434440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AEAA-CDDD-43A9-B135-41E462342E6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8D0B-4239-4A98-8867-7D0D929469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DC18-25D5-4BB9-ACC2-65D23786E7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ABE5-69A6-4712-90F0-DD5E11D637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E6B0-14E5-4826-9E3A-08CCEFCCA45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FF36-E442-46C9-9A4B-14347626E2B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0FB6-56E3-4DF3-A3C1-6C2B9A6A349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A2FE-9EEE-481F-8886-72178038FEE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5A16-53BE-4ADA-89C1-CB25159B77A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619280" y="691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655560" y="5412960"/>
            <a:ext cx="8064720" cy="792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кт заключаетс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н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через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ь дне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здн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через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дцать дне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аты размещ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единой информационной системе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мотрения и оценки заявок на участие в конкур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заключенном контракт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казчик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тече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-х рабочих дней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ает в реестре контрактов на О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3" name="Прямоугольник 3" descr=""/>
          <p:cNvPicPr/>
          <p:nvPr/>
        </p:nvPicPr>
        <p:blipFill>
          <a:blip r:embed="rId1"/>
          <a:stretch/>
        </p:blipFill>
        <p:spPr>
          <a:xfrm>
            <a:off x="420840" y="122400"/>
            <a:ext cx="8448480" cy="871200"/>
          </a:xfrm>
          <a:prstGeom prst="rect">
            <a:avLst/>
          </a:prstGeom>
          <a:ln w="0">
            <a:noFill/>
          </a:ln>
        </p:spPr>
      </p:pic>
      <p:sp>
        <p:nvSpPr>
          <p:cNvPr id="994" name="Стрелка вниз 4"/>
          <p:cNvSpPr/>
          <p:nvPr/>
        </p:nvSpPr>
        <p:spPr>
          <a:xfrm>
            <a:off x="4313160" y="765000"/>
            <a:ext cx="576360" cy="287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Стрелка вниз 6"/>
          <p:cNvSpPr/>
          <p:nvPr/>
        </p:nvSpPr>
        <p:spPr>
          <a:xfrm>
            <a:off x="4308480" y="3564000"/>
            <a:ext cx="576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Прямоугольник 7"/>
          <p:cNvSpPr/>
          <p:nvPr/>
        </p:nvSpPr>
        <p:spPr>
          <a:xfrm>
            <a:off x="622440" y="2455920"/>
            <a:ext cx="7993080" cy="10443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дне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ы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меще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а  официальном сайт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а рассмотрения и оценки заявок на участие в конкурс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бедит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курс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ать контрак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едставить все экземпляры контракта заказчику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обеспечение исполнения контракт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Прямоугольник 8"/>
          <p:cNvSpPr/>
          <p:nvPr/>
        </p:nvSpPr>
        <p:spPr>
          <a:xfrm>
            <a:off x="611280" y="1052640"/>
            <a:ext cx="8064360" cy="100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казчик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3 рабочих дне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ы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писа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окол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ния и оценки заявок на участие в конкурсе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мотрения единственной заявки на участие в конкурс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яет победителю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ны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риложением проекта контракта, который составляется путем включения в данный проект условий контракта, предложенных победителем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Стрелка вниз 9"/>
          <p:cNvSpPr/>
          <p:nvPr/>
        </p:nvSpPr>
        <p:spPr>
          <a:xfrm>
            <a:off x="4348080" y="2060640"/>
            <a:ext cx="54144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Скругленный прямоугольник 10"/>
          <p:cNvSpPr/>
          <p:nvPr/>
        </p:nvSpPr>
        <p:spPr>
          <a:xfrm>
            <a:off x="655560" y="3933720"/>
            <a:ext cx="8064720" cy="1119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дне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ы получени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победителя конкурса или участника конкурса, заявке на участие в конкурсе которого присвоен второй номер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анного контракт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ложением документов, подтверждающих предоставление обеспечения исполнения контракта,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казчик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язан подписать контракт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ередать один экземпляр контракта лицу, с которым заключен контрак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Стрелка вниз 11"/>
          <p:cNvSpPr/>
          <p:nvPr/>
        </p:nvSpPr>
        <p:spPr>
          <a:xfrm>
            <a:off x="4356000" y="5052960"/>
            <a:ext cx="576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Схема 2" descr=""/>
          <p:cNvPicPr/>
          <p:nvPr/>
        </p:nvPicPr>
        <p:blipFill>
          <a:blip r:embed="rId1"/>
          <a:stretch/>
        </p:blipFill>
        <p:spPr>
          <a:xfrm>
            <a:off x="109440" y="1017720"/>
            <a:ext cx="8858520" cy="49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06:05:05Z</dcterms:created>
  <dc:creator>Иванкин</dc:creator>
  <dc:description/>
  <dc:language>en-US</dc:language>
  <cp:lastModifiedBy>Екатерина Леонидовна Седых</cp:lastModifiedBy>
  <cp:lastPrinted>2014-07-24T12:27:48Z</cp:lastPrinted>
  <dcterms:modified xsi:type="dcterms:W3CDTF">2014-08-05T05:59:09Z</dcterms:modified>
  <cp:revision>156</cp:revision>
  <dc:subject/>
  <dc:title>АДМИНИСТРАЦИЯ г. ИВАНОВО</dc:title>
</cp:coreProperties>
</file>